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13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B21C0-8CE8-46A7-8500-0399930C2D8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8AD59-4659-4B92-B93F-C2789188E3A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F23D9-3736-4FF4-B61A-BF56D5BE2E1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3408B-BC5A-4B0C-B9FD-3F4A406C7A9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44FEC-9B52-4D26-9576-E03BE1BE794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A2A9A0-D126-4EA4-9685-807F5807F5F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A4AFC8-272B-497E-9D8F-A2255C5536D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6C3FB-52BB-4EDA-97CA-BF8156186C7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0A99F-9EC0-4638-9667-43FB6A69D89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666187-7572-4240-8D2B-430E3266712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7920" y="4716000"/>
            <a:ext cx="49816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ABF7E-E289-4BBC-9E1F-4AE9464B1EB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98B1A-E861-4FD9-8B6A-598CDA200E9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EEF83-65C7-4D20-B2EC-03DE3DB87D8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F5DC4A-6C1F-47DD-9F0A-DE8815C62A6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65191-881A-4E3C-A62B-B806F1573D9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93210A-FB39-4973-B030-2FC0BA9E5C0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695B4-FA56-413A-834F-05E1DBCC59E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320C56-B43D-4B72-B6BA-704F11AD330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4D8C5-AF04-4388-A1F8-9C2E7C44B11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7A3C0D-B96D-49D5-93AF-B2E9967A303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8416B-58B5-46A5-A21E-C0E6269447A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19CFD-D304-4F75-87C2-C98E8A6A69C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F60EA-9A44-4135-A31F-2D691401561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11160"/>
            <a:ext cx="2946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-1440" y="11160"/>
            <a:ext cx="2946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52720" y="468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-1440" y="468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27240" y="1058760"/>
            <a:ext cx="4413240" cy="33116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20480" y="5241960"/>
            <a:ext cx="59324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9533A-A0C1-45A0-AB31-E134A75F6C6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30706-06B9-4D84-AEC3-9642520B8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9F4EF-11E4-4376-92BB-62CAA80A73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42E67-3218-4CB2-9C02-C082B3CD76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9D08E-1A8D-401D-B559-A9B8C9372E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EEE13-0509-4A33-AD43-9A10F0CB04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0621A-3F79-4C8A-A888-E3EB5474BF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C5313-9B6D-44A9-BF20-62452FB674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B6E56-51A8-496B-B239-20E41EB11A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20E4D-6255-42B4-88EC-70CD383B97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09784-887F-43A1-B731-94F9DD394F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0C563-0B19-4069-B10A-3929BD18EB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C32D2-5BDE-4298-B099-E6DF8741C9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26F496-1B78-4E5E-A495-C3D77429EF3D}" type="slidenum">
              <a: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412640"/>
            <a:ext cx="7921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cle de conférences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La réforme budgétaire</a:t>
            </a:r>
            <a:br>
              <a:rPr sz="3800"/>
            </a:br>
            <a:br>
              <a:rPr sz="3400"/>
            </a:b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ère du Budget, des Comptes publics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et de la Fonction publique - Par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50480" y="601488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 Narrow"/>
              </a:rPr>
              <a:t>Varsovie, 11 décembr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6629400" y="654840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54840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2. Un échange entre liberté et responsabilité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1663560"/>
            <a:ext cx="273528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Liberté accru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acte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 l’administr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3786120"/>
            <a:ext cx="36003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Globalisation des crédits par program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Fongibilité des crédits par nature, mais avec un plafond de masse salaria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Liberté de redéploiement des effectifs dans un plafond d’emplois exprimé en équivalent temps ple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08560" y="1663560"/>
            <a:ext cx="279252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Plus gran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Responsabilit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gestionnai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 program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3786120"/>
            <a:ext cx="3382920" cy="24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S’engager sur des objectifs et rendre compte des résulta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Rendre compte de l’utilisation des crédits par nature et par finalité de la dépen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Plus d’information dans l’exécution du budget en engagements et en paiem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tabLst>
                <a:tab algn="l" pos="0"/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72953-855A-47E8-8621-AB9430435B5B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1314360" y="836640"/>
            <a:ext cx="7245360" cy="5956200"/>
            <a:chOff x="1314360" y="836640"/>
            <a:chExt cx="7245360" cy="595620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1314360" y="836640"/>
              <a:ext cx="7245360" cy="595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3989160" y="4480920"/>
              <a:ext cx="150588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a40079"/>
                  </a:solidFill>
                  <a:latin typeface="Arial"/>
                </a:rPr>
                <a:t>FONGIBILITÉ</a:t>
              </a:r>
              <a:r>
                <a:rPr b="0" lang="pl-PL" sz="1600" spc="-1" strike="noStrike">
                  <a:solidFill>
                    <a:srgbClr val="a40079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238720" y="2963880"/>
              <a:ext cx="1960560" cy="1432080"/>
              <a:chOff x="5238720" y="2963880"/>
              <a:chExt cx="1960560" cy="1432080"/>
            </a:xfrm>
          </p:grpSpPr>
          <p:sp>
            <p:nvSpPr>
              <p:cNvPr id="182" name=""/>
              <p:cNvSpPr/>
              <p:nvPr/>
            </p:nvSpPr>
            <p:spPr>
              <a:xfrm>
                <a:off x="5425920" y="3681360"/>
                <a:ext cx="1773360" cy="714600"/>
              </a:xfrm>
              <a:custGeom>
                <a:avLst/>
                <a:gdLst>
                  <a:gd name="textAreaLeft" fmla="*/ 310320 w 1773360"/>
                  <a:gd name="textAreaRight" fmla="*/ 1285920 w 1773360"/>
                  <a:gd name="textAreaTop" fmla="*/ 95760 h 714600"/>
                  <a:gd name="textAreaBottom" fmla="*/ 618840 h 714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5238720" y="2963880"/>
                <a:ext cx="1773360" cy="716040"/>
              </a:xfrm>
              <a:custGeom>
                <a:avLst/>
                <a:gdLst>
                  <a:gd name="textAreaLeft" fmla="*/ 310320 w 1773360"/>
                  <a:gd name="textAreaRight" fmla="*/ 1285920 w 1773360"/>
                  <a:gd name="textAreaTop" fmla="*/ 95760 h 716040"/>
                  <a:gd name="textAreaBottom" fmla="*/ 620280 h 716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4106880" y="5616720"/>
              <a:ext cx="1357200" cy="357120"/>
            </a:xfrm>
            <a:prstGeom prst="rightArrow">
              <a:avLst>
                <a:gd name="adj1" fmla="val 50000"/>
                <a:gd name="adj2" fmla="val 95010"/>
              </a:avLst>
            </a:pr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029840" y="4971960"/>
              <a:ext cx="1357560" cy="357120"/>
            </a:xfrm>
            <a:prstGeom prst="rightArrow">
              <a:avLst>
                <a:gd name="adj1" fmla="val 50000"/>
                <a:gd name="adj2" fmla="val 95035"/>
              </a:avLst>
            </a:pr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655800" y="3179880"/>
              <a:ext cx="903600" cy="786960"/>
              <a:chOff x="3655800" y="3179880"/>
              <a:chExt cx="903600" cy="786960"/>
            </a:xfrm>
          </p:grpSpPr>
          <p:sp>
            <p:nvSpPr>
              <p:cNvPr id="187" name=""/>
              <p:cNvSpPr/>
              <p:nvPr/>
            </p:nvSpPr>
            <p:spPr>
              <a:xfrm>
                <a:off x="3741840" y="3574080"/>
                <a:ext cx="817560" cy="392760"/>
              </a:xfrm>
              <a:custGeom>
                <a:avLst/>
                <a:gdLst>
                  <a:gd name="textAreaLeft" fmla="*/ 142920 w 817560"/>
                  <a:gd name="textAreaRight" fmla="*/ 592920 w 817560"/>
                  <a:gd name="textAreaTop" fmla="*/ 52560 h 392760"/>
                  <a:gd name="textAreaBottom" fmla="*/ 340200 h 39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3655440" y="3179880"/>
                <a:ext cx="817560" cy="394200"/>
              </a:xfrm>
              <a:custGeom>
                <a:avLst/>
                <a:gdLst>
                  <a:gd name="textAreaLeft" fmla="*/ 142560 w 817560"/>
                  <a:gd name="textAreaRight" fmla="*/ 592560 w 817560"/>
                  <a:gd name="textAreaTop" fmla="*/ 52560 h 394200"/>
                  <a:gd name="textAreaBottom" fmla="*/ 341640 h 39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4560840" y="4900680"/>
              <a:ext cx="525600" cy="4284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4559040" y="4900680"/>
              <a:ext cx="453960" cy="4284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927920" cy="60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fongibilité au sein du program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B4EDE-39BA-40F8-AF22-F1E6499C9CB4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3. Un budget orienté vers les résultats : la recherche de la PERFORMAN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déterminés dans le cadre des moyens alloués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≠ budgétisation par objectif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Des objectifs d’amélioration de l’efficacité de la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S’engager sur les résultats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le projet annuel de performance (LFI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endre compte des résultats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le rapport annuel de performance (LR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Même présentation, même structure que le projet annuel de performance afin de faciliter la comparaison prévisions/réalisa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Vote en première lecture sur la loi de règlement n-1 avant l’examen du PLF n+1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E918F-F2FF-4645-8C50-938325CA2662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sens de la  performanc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guide méthodologiqu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artagé entre le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ouvernement, le Parlement, la Cour des Comptes et le CI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sélection d’objectifs et d’indicateurs de résultats représentative des priorités du program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tratégi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ur expliquer la cohéren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bjectif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ur répondre aux attentes du citoyen,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 l’usager et du contribuable : un choix politiqu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ndicateur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ur mesurer la réalisation des objectifs retenu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et indicateurs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clairent les politiques et sont présentés au Parlement dans l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AP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t dont il est rendu compte dans l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tilisés et déclinés dans la gestion interne et donnan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sens à l’activité de chaque ag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329600" y="114480"/>
            <a:ext cx="1419120" cy="15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3333C-1E38-4A44-8EA2-4154A4B79478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dimensions de la perform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ois dimensions de la performance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efficacité socio-économiqu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point de vue du citoyen) : les effets attendus des politiques publiqu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qualité du service rendu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point de vue de l’usager) : la qualité exigé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efficacité de la gestion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point de vue du contribuable) : l’optimisation des moye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ndicateur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 mesure des résultats pour chaque objectif en fixant des cibles (niveaux de performance obtenus et attendus)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d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erformanc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t non d’activité ou de moyen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mputabl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ux responsabl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 contrôle permanent exercé par un organisme public indépendant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omité interministériel d’audit des programmes (CIAP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F91DA-86C5-42C1-8008-0FFC16882914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pilotage par la performanc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927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5 objectifs par programme, 2 indicateurs par objectif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500 objectifs – 1.000 indicateurs en 2009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897840" y="2492280"/>
            <a:ext cx="7696800" cy="3346560"/>
            <a:chOff x="897840" y="2492280"/>
            <a:chExt cx="7696800" cy="3346560"/>
          </a:xfrm>
        </p:grpSpPr>
        <p:sp>
          <p:nvSpPr>
            <p:cNvPr id="202" name=""/>
            <p:cNvSpPr/>
            <p:nvPr/>
          </p:nvSpPr>
          <p:spPr>
            <a:xfrm>
              <a:off x="900000" y="507708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900000" y="4009320"/>
              <a:ext cx="7694640" cy="1080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00000" y="583884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900000" y="3171240"/>
              <a:ext cx="7694640" cy="1044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98560" y="2644560"/>
              <a:ext cx="155916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oint de v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498400" y="2644560"/>
              <a:ext cx="17312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Axe d’analy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27560" y="2492280"/>
              <a:ext cx="13334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Exemp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d’object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09720" y="2492280"/>
              <a:ext cx="144792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Exemp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d’indicateu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97840" y="3258720"/>
              <a:ext cx="9172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Citoy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9640" y="4020480"/>
              <a:ext cx="87912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Us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98920" y="5077080"/>
              <a:ext cx="14356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Contribu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99480" y="3228480"/>
              <a:ext cx="159264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fficacité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ocio-économi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98400" y="4042800"/>
              <a:ext cx="1536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qualité du 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nd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99840" y="5110200"/>
              <a:ext cx="1158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fficacité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 la ges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27920" y="3206520"/>
              <a:ext cx="177228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ccroître l’inser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rofessionnell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s jeunes diplômé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309360" y="3173040"/>
              <a:ext cx="222804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% de diplômés aya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n emploi 6 mois aprè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l’obtention de leur diplô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27920" y="4042800"/>
              <a:ext cx="1734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ccélérer l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cisions judiciai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28280" y="5110200"/>
              <a:ext cx="164448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éduire le coût d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gestion de l’impô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99640" y="4010760"/>
              <a:ext cx="204228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urée moyenne d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cisions rendues 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ncienneté moyenn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s jugements en cou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07920" y="5077080"/>
              <a:ext cx="204984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oût par redevable d’u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mpô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4367E-ED1A-4F4A-899D-B9D20C086214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4. La transparence des informa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penses de personnel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n coût complet intégrant les cotisations patronales + l’ensemble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mploi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émunérées par l’Etat exprimés en « équivalents temps plein travaillés »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TP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justification au premier euro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s crédits (éléments physico-financier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 renforcement du principe d’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iversa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budgétai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présentation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pérateur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emplois et crédi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généralisation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utorisations d’Engagement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à toutes les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comptabilité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’analyse du coût des action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répartissant les fonctions support et les services polyvalent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1894A-3185-4497-A013-59D82A94F726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5. La nouvelle comptabilité</a:t>
            </a:r>
            <a:br>
              <a:rPr sz="3000"/>
            </a:b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Les outils de mesure de la situation financière de l’Etat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9279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a comptabilité élevée au niveau d’une loi organique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A coté de la comptabilité budgétaire en caisse, introduction de la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comptabilité d’exercice, en droits constatés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pour assurer la transparence de la situation financière de l’Etat (bilan +  hors-bilan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Des comptes réguliers, sincères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et donnant une image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fidèl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de son patrimoine et de sa situation financiè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e exigence de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qualité comptabl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confiée aux comptables en lien avec les ordonnateur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2BDCD-79B0-44EE-B3C2-8A820AE798E8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Une nouvelle comptabilité à trois dimens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90520" indent="-29052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comptabilité budgétair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ondée sur la comptabilisation des recettes et des dépenses budgétaires (encaissements/paiemen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ériode complémentaire comptable de 20 jour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double suivi AE/C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comptabilité d’exercic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 fondée sur la constatation des droits et obligations, proche des règles de comptabilité des entreprises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s opérations sont prises en compte au titre de l’exercice auquel elles se rattachent, indépendamment de leur date de paiement ou d’encaissem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analyse des coûts des action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 au service du gestionnaire (cf. CAC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90600" y="173160"/>
            <a:ext cx="6639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29C96-6AC4-48E0-938A-44E1A4B26474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mise en œuvre de la nouvelle comptabilit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définition du cadre conceptuel : les normes comptabl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3 normes établis par le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comité des norme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sur les états financiers, les charges, les immobilisations, les dettes, etc.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21 mai 2004 :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approbation par arrêté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déclinaison des norm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plan de compte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par nature (PC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recueil des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instructions comptabl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construction du bila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recensement et la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valorisation du parc immobilier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coût du marché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autres immobilisation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corporelles et les stock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ification annuell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ar la Cour des Comptes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comptes 2006 et 2007 certifiés par la Cour des Compt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vec 13 puis 12 réserves (dont 2 générales sur les systèmes d’information et le contrôle intern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EDF2A-D1C7-40E4-B0CC-219371F722E8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loi organique du 1</a:t>
            </a:r>
            <a:r>
              <a:rPr b="1" lang="pl-PL" sz="2600" spc="-1" strike="noStrike" baseline="30000">
                <a:solidFill>
                  <a:srgbClr val="ffffff"/>
                </a:solidFill>
                <a:latin typeface="Arial"/>
              </a:rPr>
              <a:t>er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 août 2001 relative aux lois de finances ( LOLF) en Fran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9279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e nouvelle constitution financière pour l’Etat 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e initiative parlementai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 accord politique trans-partisa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 consensus avec le gouvernem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0A871-23F1-4ED3-AA2E-70F510BF3D3B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6. L’accroissement du rôle du Parlemen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budge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lus lisib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discussion et le vote par grandes politiques publiques (mission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discussion des crédits au premier euro, des emplois par ministè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ne information enrichie pour contrôler la dépense (PAP – annexes – RAP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déba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tentiellement plus rich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’élargissement du droit d’amendement : redéploiements entre programmes d’une même miss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cour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’exécu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un accès renforcé à l’information pour les commissions des finances (actes réglementaire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pouvoirs d’investigations e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’audi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enforcés (recours à la Cour des Compte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’importance nouvelle d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a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oi de règlemen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qui intègre les comptes et les rapports annuels de performan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E0881-D059-404D-AE12-E8F0B2B71605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295280" y="1600200"/>
            <a:ext cx="3581640" cy="4952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Jusqu'e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71600" y="5054400"/>
            <a:ext cx="3352680" cy="14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94% des crédits sont reconduit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quasi-automatiquement d'une anné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ur l'autre (services votés), sans remise en caus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'essentiel des débats porte sur seulement 6% du budget génér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5057280"/>
            <a:ext cx="3276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100% des crédits sont discuté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u Parlement par miss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1600200"/>
            <a:ext cx="35812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Depuis le budget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667480" y="2577960"/>
            <a:ext cx="2333520" cy="23241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776240" y="2575080"/>
            <a:ext cx="2419560" cy="2377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733400" y="2819520"/>
            <a:ext cx="533520" cy="228600"/>
          </a:xfrm>
          <a:custGeom>
            <a:avLst/>
            <a:gdLst/>
            <a:ahLst/>
            <a:rect l="l" t="t" r="r" b="b"/>
            <a:pathLst>
              <a:path w="288" h="96">
                <a:moveTo>
                  <a:pt x="192" y="48"/>
                </a:moveTo>
                <a:lnTo>
                  <a:pt x="288" y="0"/>
                </a:lnTo>
                <a:lnTo>
                  <a:pt x="0" y="0"/>
                </a:lnTo>
                <a:lnTo>
                  <a:pt x="0" y="96"/>
                </a:lnTo>
                <a:lnTo>
                  <a:pt x="192" y="96"/>
                </a:lnTo>
                <a:lnTo>
                  <a:pt x="288" y="0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81480" y="2581200"/>
            <a:ext cx="1353960" cy="28584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0"/>
                </a:moveTo>
                <a:lnTo>
                  <a:pt x="48" y="96"/>
                </a:lnTo>
                <a:lnTo>
                  <a:pt x="336" y="96"/>
                </a:lnTo>
                <a:lnTo>
                  <a:pt x="432" y="192"/>
                </a:lnTo>
                <a:lnTo>
                  <a:pt x="912" y="192"/>
                </a:lnTo>
                <a:lnTo>
                  <a:pt x="912" y="0"/>
                </a:lnTo>
                <a:lnTo>
                  <a:pt x="0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2057400"/>
            <a:ext cx="16002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esures nouvelles par ministèr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7 votes en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2346480"/>
            <a:ext cx="12193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rvices votés : 1 seul v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315200" y="2438280"/>
            <a:ext cx="762120" cy="457200"/>
          </a:xfrm>
          <a:custGeom>
            <a:avLst/>
            <a:gdLst/>
            <a:ahLst/>
            <a:rect l="l" t="t" r="r" b="b"/>
            <a:pathLst>
              <a:path w="480" h="288">
                <a:moveTo>
                  <a:pt x="0" y="96"/>
                </a:moveTo>
                <a:lnTo>
                  <a:pt x="336" y="288"/>
                </a:lnTo>
                <a:lnTo>
                  <a:pt x="480" y="288"/>
                </a:lnTo>
                <a:lnTo>
                  <a:pt x="480" y="0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96080" y="2517840"/>
            <a:ext cx="10670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7 missions, 47 v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Un débat budgétaire enrichi et modernis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4F67A-5CDF-46FD-B666-AB7A64CBEFF8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7. Un nouveau système de responsabilit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 algn="just"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 pilotage par le responsable de program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près arbitrage mené par le directeur des affaires financières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l dispose des crédits et les répartit pour les besoins de la gestion interne,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l s’engage sur la performance devant le Parlement 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rojet annuel de performance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l rend compte devant le Parlement 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pport annuel</a:t>
            </a:r>
            <a:br>
              <a:rPr sz="2000"/>
            </a:b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 performanc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responsables de programme qui peuvent piloter plusieurs direction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e responsabi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«managériale», une rémunération au mérit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B5406-F07C-44D6-92A7-C13B53C8DBC8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Une déconcentration de la gestion budgéta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s programmes nationaux se déclinent en</a:t>
            </a:r>
            <a:r>
              <a:rPr b="0" lang="pl-P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budget opérationnel de programme (BOP)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sur un périmètre ou un territoir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plan d’action avec des objectifs et indicateurs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 performance adaptés aux enjeux opérationnels des services déconcentré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budget prévisionnel, détaillé par finalité et nature de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schéma d’organisation financiè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gestion 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sponsable de budget opérationnel de program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l dispose d’un budget opérationnel de programme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l s’engage et rend compte dans le cadre du dialogue de gestion au responsable de programme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DFE25-FD25-4E47-9B55-81AEFBDC206F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9. L’allégement des contrôles du ministère des financ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contrôle budgétaire de soutenabi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décret du 27/01/05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bandon du contrôle de régularité confié aux gestionnair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visa amont sur la programmation budgétaire initia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cours de gestion : une modularité des contrôles avec un contrôle a priori en fonction des enjeux et des risqu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comptes-rendus de gestion trimestriels par les gestionnair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contrôle comptable du paiement de la dépense allég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 hiérarchisé ou partenaria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ais u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ontrôle interne comptabl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enforcé pour garantir la «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qualité comptabl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C61D7-026C-415A-9EB2-AE0F00361729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 développement des contrôles exercés par les ministères gestionnair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développement du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contrôle de gestion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 «améliorer le rapport entre les moyens engagés et l’activité ou bien avec les résultats obtenus»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contrôle de gestion ministériel et par programme, et au niveau loca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renforcement du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contrôle intern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onséquence de la réorganisation des ministères et de l’allégement des contrôles financier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se en place d’un contrôle interne comptabl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développement de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l’audit intern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Activité externe menée par des équipes dédiées (inspections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64E3E-A2B1-4B84-B836-AA6CB82CF7C2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10. La mise en place de nouveaux systèmes d’information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système provisoire dès 2006 mais peu satisfaisa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nouveau progiciel de gestion intégré (ERP) en construction (CHORUS) couvrant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’ensemble des administrations centrales et déconcentré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’ensemble des applications de dépenses, de recettes et toutes les comptabilit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es infocentres de données permettant des restitutio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levier de modernisation et d’amélioration de la productivité, précédé d’une «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éingénierie des processus financier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» (23.000 licences au lieu de 45.000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déploiement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progressif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prévu entre 2009 et 2011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accompagnement indispensable dans le déploiem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40F92-48EB-4CE7-AAAF-73243C5E0AF7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En conclusion: le temps long de la réforme </a:t>
            </a:r>
            <a:br>
              <a:rPr sz="2600"/>
            </a:b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s principales étapes de la réforme budgétaire : 2001-2007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2421000"/>
            <a:ext cx="8351640" cy="1440"/>
          </a:xfrm>
          <a:prstGeom prst="line">
            <a:avLst/>
          </a:prstGeom>
          <a:ln cap="sq" w="76320">
            <a:solidFill>
              <a:srgbClr val="00ad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656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0328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6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10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00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076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916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93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831708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027080" y="2490480"/>
            <a:ext cx="180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9440" y="3141720"/>
            <a:ext cx="131292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e par 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78200" y="3149640"/>
            <a:ext cx="18730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éation de la  Direction de la réforme budgét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80000" y="3141720"/>
            <a:ext cx="1800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pl-PL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er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rojet de loi de finances en mode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ectifs de performance / indicateurs d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580000" y="3135240"/>
            <a:ext cx="19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port Lambert/Migaud sur la mise en œuvre de la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 : 1</a:t>
            </a:r>
            <a:r>
              <a:rPr b="0" lang="fr-FR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r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i de finances en mode LOLF &amp; débat parlement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451640" y="3135240"/>
            <a:ext cx="169236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pl-PL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er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rapports annuels de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tification des comptes par la Cour des Comp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5963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37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00000" y="5589720"/>
            <a:ext cx="266724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pl-PL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r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étap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truire les fo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073400" y="5589720"/>
            <a:ext cx="17226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pl-PL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m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étape :</a:t>
            </a:r>
            <a:r>
              <a:rPr b="0" lang="pl-PL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é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59640" y="5589720"/>
            <a:ext cx="18907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0" lang="pl-PL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m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étape :</a:t>
            </a:r>
            <a:r>
              <a:rPr b="0" lang="pl-PL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mise en œuv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201924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475452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7418160" y="41734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72360" y="2492280"/>
            <a:ext cx="2520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uvelle agence de gestion des systèmes d’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E002E-48FA-4208-94BA-A34D6980AB76}" type="slidenum">
              <a:t>27</a:t>
            </a:fld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pilotage de la réfor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pilotage assuré par l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inistère des financ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création d’un structure dédiée: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la direction de la réforme budgétair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, direction de projet  créée pour une durée limitée: 50 cadres de haut niveau aidé par des consultants pour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éfinir les nouvelles règles budgétaires et comptables (en associant les directions du budget et de la comptabilité publiqu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ssurer le pilotage interministériel de la réforme (comité des directeurs financiers des ministères, forum des responsables de  programme, animation de comités locaux de la réforme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feuille de rout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, un calendrier, des jalon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e consultation permanente des commissions de finances du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Parleme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9EE3D-4DC9-4D64-AACB-776D367D8C38}" type="slidenum">
              <a:t>28</a:t>
            </a:fld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enseignements de la mise en œuv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nécessité d’une implication au plus haut niveau (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soutien politiqu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formation des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anagers public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à la culture de responsabilité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formatio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indispensable dans les ministères pour tous les agents quelque soit leur niveau  (formation de formateurs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e recours a des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expérimentation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pour s’approprier la réform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communicatio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externe et et intern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nécessité d’une mise sous tension par l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calendrier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4ADB0-543D-400D-A2F0-B8794226CB0F}" type="slidenum">
              <a:t>29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LOLF doit répondre aux attentes …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717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9856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élu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3933720"/>
            <a:ext cx="28065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1160" indent="-28116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isibilité budgétaire accrue et transparence dans l’exé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Meilleure affectation des ressources aux politiques publiques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86400" y="1879560"/>
            <a:ext cx="251964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fonctionnai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3930480"/>
            <a:ext cx="2521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Plus grande liberté et responsabilité accrue des acteurs de l’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Des objectifs cl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31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92360" y="3933720"/>
            <a:ext cx="274644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Citoyens : meilleure compréhension de l’utilisation des impô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Usagers : des services publics mieux adaptés aux bes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Contribuables : meilleure utilisation des impô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4500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 Narrow"/>
              </a:rPr>
              <a:t>des citoy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1B5E1-C380-4B07-AA25-D04110A15E62}" type="slidenum">
              <a:t>3</a:t>
            </a:fld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Des premiers résultats encouragean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France 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specté les dates limit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fixée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</a:t>
            </a:r>
            <a:r>
              <a:rPr b="0" lang="pl-PL" sz="1800" spc="-1" strike="noStrike" baseline="30000">
                <a:solidFill>
                  <a:srgbClr val="4d4d4d"/>
                </a:solidFill>
                <a:latin typeface="Arial"/>
              </a:rPr>
              <a:t>èr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loi de finances voté en mode LOLF en 2006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1ers comptes 2006 certifiés par la Cour des Compt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naissance d’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ouvelle forme de responsabi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encourageant les ministères à redéfinir leurs objectif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léguant les responsabilité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le nouveau système encourage l’amélioration de la qualité du service public et une meilleure utilisation des ressources publiqu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cloisonnemen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s services entre les opérationnels, les financiers et les ressources humain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enrichissement réel du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ialogue de ges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mais une déclinaison de la performance à améliore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5076C-3BF8-4C7B-AEF8-AC7EF32BEAE4}" type="slidenum">
              <a:t>30</a:t>
            </a:fld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algré des débuts diffici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e phase d’apprentissag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 nouveaux standards, nouveaux outils, nouveau calendrier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arges de manœuvre encore faibl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 des faibles redéploiements, des fléchages de crédits par les administrations centrales …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harge de travail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lus complexe et plus grande (plus d'informations, de procédures d'engagement de dépense, etc.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soucis concernant la disponibilité et l'exactitude de certain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util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notamment les systèmes intégrés de gestion. Un débat non tranché sur le partage des gains de productivité ( peu de contrats pluriannuel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 problème de l’application de la réforme en  période de déficit budgétai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D281F-8D06-4190-BAD4-EA3931F7E057}" type="slidenum">
              <a:t>31</a:t>
            </a:fld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défis de plus long ter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politiqu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 la réalité du rôle du Parlem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 administratif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cohérence entre les périmètres des programmes importants (100) et les compétences des administrations centrales (200 direction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relations entre les administrations centrales et les services déconcentr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relations entre les acteurs : ministère des finances/ ministères gestionnaires ; responsables de programmes opérationnels /directions support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citations pour réaliser les résultats et améliorer la gestion des ressources humaines (carrière, salaires, bonifications, etc.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culturel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: le passage d’une culture de moyens et de régularité à une culture de résulta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techniqu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 améliorer les systèmes d'information pour la qualité et la fiabilité des données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4" name=""/>
          <p:cNvGraphicFramePr/>
          <p:nvPr/>
        </p:nvGraphicFramePr>
        <p:xfrm>
          <a:off x="6629400" y="654840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54840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EB441-AC23-48CC-B7A0-E410167829A6}" type="slidenum">
              <a:t>32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lusieurs réformes dans un texte solenn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Une nouvelle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nomenclature budgétair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dans la discussion, le vote et l’exécution des lois de finances pour présenter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es finalités de la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Un budget orienté vers les résultats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vec des objectifs et des indicateurs de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erformanc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pour une permettre une nouvelle gestion publique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Des comptes plus transparents et plus précis basés sur la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comptabilité en droits constatés («accrual»)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et l'analyse des coûts, donnant aux gestionnaires de nouveaux outils pour gérer leurs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Un nouveau système de gouvernance budgétaire et de procédure budgétaire: une collégialité gouvernementale et un rôle plus actif du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arlemen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dans l’autorisation et le contrôle des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8DBBB-3698-49EF-96A2-BE8CA27FE3D9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1. La nouvelle architecture budgétair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249720" y="2209320"/>
            <a:ext cx="5892840" cy="3208320"/>
            <a:chOff x="3249720" y="2209320"/>
            <a:chExt cx="5892840" cy="3208320"/>
          </a:xfrm>
        </p:grpSpPr>
        <p:sp>
          <p:nvSpPr>
            <p:cNvPr id="116" name=""/>
            <p:cNvSpPr/>
            <p:nvPr/>
          </p:nvSpPr>
          <p:spPr>
            <a:xfrm>
              <a:off x="5238720" y="2209320"/>
              <a:ext cx="230652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4000" spc="-1" strike="noStrike">
                  <a:solidFill>
                    <a:srgbClr val="000000"/>
                  </a:solidFill>
                  <a:latin typeface="Arial"/>
                </a:rPr>
                <a:t>Miss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" name=""/>
            <p:cNvCxnSpPr/>
            <p:nvPr/>
          </p:nvCxnSpPr>
          <p:spPr>
            <a:xfrm rot="5400000">
              <a:off x="5938920" y="3431160"/>
              <a:ext cx="926280" cy="6840"/>
            </a:xfrm>
            <a:prstGeom prst="bentConnector3">
              <a:avLst>
                <a:gd name="adj1" fmla="val 5000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18" name=""/>
            <p:cNvSpPr/>
            <p:nvPr/>
          </p:nvSpPr>
          <p:spPr>
            <a:xfrm>
              <a:off x="3630600" y="388872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24640" y="3888720"/>
              <a:ext cx="15238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0120" y="388872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"/>
            <p:cNvCxnSpPr>
              <a:stCxn id="116" idx="2"/>
              <a:endCxn id="118" idx="0"/>
            </p:cNvCxnSpPr>
            <p:nvPr/>
          </p:nvCxnSpPr>
          <p:spPr>
            <a:xfrm rot="5400000">
              <a:off x="4929120" y="2424600"/>
              <a:ext cx="924480" cy="2002680"/>
            </a:xfrm>
            <a:prstGeom prst="bentConnector3">
              <a:avLst>
                <a:gd name="adj1" fmla="val 4998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cxnSp>
          <p:nvCxnSpPr>
            <p:cNvPr id="122" name=""/>
            <p:cNvCxnSpPr>
              <a:stCxn id="116" idx="2"/>
              <a:endCxn id="120" idx="0"/>
            </p:cNvCxnSpPr>
            <p:nvPr/>
          </p:nvCxnSpPr>
          <p:spPr>
            <a:xfrm flipH="1" rot="16200000">
              <a:off x="6923520" y="2431800"/>
              <a:ext cx="924480" cy="1987920"/>
            </a:xfrm>
            <a:prstGeom prst="bentConnector3">
              <a:avLst>
                <a:gd name="adj1" fmla="val 4998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23" name=""/>
            <p:cNvSpPr/>
            <p:nvPr/>
          </p:nvSpPr>
          <p:spPr>
            <a:xfrm>
              <a:off x="5396040" y="5029920"/>
              <a:ext cx="90000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9200" y="5029920"/>
              <a:ext cx="87948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21320" y="5029920"/>
              <a:ext cx="79056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49720" y="5028480"/>
              <a:ext cx="83340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18" idx="2"/>
              <a:endCxn id="126" idx="0"/>
            </p:cNvCxnSpPr>
            <p:nvPr/>
          </p:nvCxnSpPr>
          <p:spPr>
            <a:xfrm rot="5400000">
              <a:off x="3683520" y="4320360"/>
              <a:ext cx="691200" cy="72756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8" name=""/>
            <p:cNvCxnSpPr>
              <a:stCxn id="118" idx="2"/>
              <a:endCxn id="124" idx="0"/>
            </p:cNvCxnSpPr>
            <p:nvPr/>
          </p:nvCxnSpPr>
          <p:spPr>
            <a:xfrm rot="5400000">
              <a:off x="3999240" y="4637880"/>
              <a:ext cx="692640" cy="9432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9" name=""/>
            <p:cNvCxnSpPr>
              <a:stCxn id="118" idx="2"/>
              <a:endCxn id="123" idx="0"/>
            </p:cNvCxnSpPr>
            <p:nvPr/>
          </p:nvCxnSpPr>
          <p:spPr>
            <a:xfrm flipH="1" rot="16200000">
              <a:off x="4772160" y="3958200"/>
              <a:ext cx="692640" cy="145332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30" name=""/>
            <p:cNvCxnSpPr>
              <a:stCxn id="118" idx="2"/>
              <a:endCxn id="125" idx="0"/>
            </p:cNvCxnSpPr>
            <p:nvPr/>
          </p:nvCxnSpPr>
          <p:spPr>
            <a:xfrm flipH="1" rot="16200000">
              <a:off x="4357800" y="4372560"/>
              <a:ext cx="692640" cy="62460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</p:grpSp>
      <p:sp>
        <p:nvSpPr>
          <p:cNvPr id="131" name=""/>
          <p:cNvSpPr/>
          <p:nvPr/>
        </p:nvSpPr>
        <p:spPr>
          <a:xfrm>
            <a:off x="609480" y="3772080"/>
            <a:ext cx="2667240" cy="1828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838760"/>
            <a:ext cx="28958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G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611280" y="3735360"/>
            <a:ext cx="2666880" cy="41904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171880"/>
            <a:ext cx="266724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1760" y="2400480"/>
            <a:ext cx="222804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Discussion et vote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au Par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1560" y="3733920"/>
            <a:ext cx="149184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Auto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Exé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4F63D-4553-44C2-A4AE-27C1200F48C2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mission : l’expression des choix politi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35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32 missions pour le budget généra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’identification de politiques publiques cohérentes : «Une mission comprend un ensemble de programmes concourant à une politique publique définie»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Elle est l'unité de vote du Parlem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lle regroupe un ensemble de programmes,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Parlement peut réallouer les crédits entre programmes, au sein d'une missio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Elle peut être ministérielle ou interministériell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8 missions interministérielles,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xemple : la mission «Recherche» qui concerne 6 ministèr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A8C3A-DAC9-4002-8F6D-B50AA85ACDFA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826920" y="1928160"/>
            <a:ext cx="7858440" cy="4674960"/>
            <a:chOff x="826920" y="1928160"/>
            <a:chExt cx="7858440" cy="4674960"/>
          </a:xfrm>
        </p:grpSpPr>
        <p:sp>
          <p:nvSpPr>
            <p:cNvPr id="140" name=""/>
            <p:cNvSpPr/>
            <p:nvPr/>
          </p:nvSpPr>
          <p:spPr>
            <a:xfrm>
              <a:off x="7153200" y="2139480"/>
              <a:ext cx="152244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nseign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Supérieur 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Recher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6920" y="1928160"/>
              <a:ext cx="6105600" cy="120996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Formation supérieure et recherche universita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Vie étudi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s scientifiques et technologiques pluridisciplinai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 la gestion des milieux et des ressour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spati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6890400" y="24944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6920" y="338256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industrie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53200" y="3136680"/>
              <a:ext cx="1522440" cy="8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Économi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Industrie et</a:t>
              </a:r>
              <a:br>
                <a:rPr sz="1400"/>
              </a:b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mplo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6890400" y="352188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6920" y="3889080"/>
              <a:ext cx="6105600" cy="99684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s risques et des pollu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 l'énerg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s transports, de l'équipement et de l'habit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53200" y="3889080"/>
              <a:ext cx="15224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Écologi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Développ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Aménagement dur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6890400" y="435060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53200" y="501660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Déf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6920" y="501480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uale (civile et militair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6890400" y="515736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6920" y="624564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nseignement supérieur et recherche agrico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53200" y="624564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Agri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6890400" y="63896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62920" y="561852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6640" y="5615280"/>
              <a:ext cx="610704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culturelle et culture scientifi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6899760" y="5759640"/>
              <a:ext cx="298440" cy="745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mission « Recherche et enseignement supérieur »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12 programmes / 6 ministèr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DFAF6-D70A-40F5-9974-69A50F1D91E9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 programme : cadre d’autorisation et de gestion des politiques publi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130 programmes pour le budget généra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programme regroupe les crédits (quelle qu’en soit la nature) destinés à mettre en œuvre une action ou un ensemble cohérent d'actions (600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l relève d'un seul minist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ité de spécialité des crédits et de définition des objectifs et indicateurs de résulta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as de budgétisation analytiqu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l nécessite un pilotage qui fait apparaître de nouvelles fonctions managériales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04840"/>
            <a:ext cx="701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55520" y="204840"/>
            <a:ext cx="765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F8689-6A01-4E3C-8ACB-5FF79D2A7E4F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181480" y="2967120"/>
            <a:ext cx="3657600" cy="53496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Administration pénitenti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5110200"/>
            <a:ext cx="3657600" cy="99864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Conduite et pilotage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la politique de la 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et organismes rattach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349360"/>
            <a:ext cx="3657600" cy="45720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Justice judici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3662280"/>
            <a:ext cx="3657600" cy="7444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Protection judiciaire </a:t>
            </a:r>
            <a:br>
              <a:rPr sz="2000"/>
            </a:b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de la jeune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4567320"/>
            <a:ext cx="3657600" cy="3826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Accès au droit et à la 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globalisation des crédits</a:t>
            </a:r>
            <a:br>
              <a:rPr sz="3000"/>
            </a:b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L’exemple de la mission «justice»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2200" y="1484280"/>
            <a:ext cx="4267080" cy="4897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Avant : 30 chapi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160 articles de pré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III - Moyens des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Personnel - rémunérations d'activ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Personnel en retraite - pensions et allo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Personnel en activité et en retraite - charges so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Matériel et fonctionnement des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Subventions de fonctionn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Dépenses diver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IV - Interventions publ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Interventions politiques et administr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Actions sociale - assistance et solidar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V - Investissements exécutés par l'É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Équipement administratifs et di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VI - Subventions d'investissement accordées par l'É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Équipement culturel et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95840" y="3044880"/>
            <a:ext cx="380880" cy="1600200"/>
          </a:xfrm>
          <a:prstGeom prst="rightArrow">
            <a:avLst>
              <a:gd name="adj1" fmla="val 71824"/>
              <a:gd name="adj2" fmla="val 50833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48360" y="1679400"/>
            <a:ext cx="36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Après : 5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2B634-628F-4A94-A668-E73F93205E19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0:25:37Z</dcterms:created>
  <dc:creator>MINEFI</dc:creator>
  <dc:description/>
  <dc:language>en-US</dc:language>
  <cp:lastModifiedBy>KAS</cp:lastModifiedBy>
  <dcterms:modified xsi:type="dcterms:W3CDTF">2009-02-05T12:50:16Z</dcterms:modified>
  <cp:revision>168</cp:revision>
  <dc:subject/>
  <dc:title>La gestion de la réforme budgétaire </dc:title>
</cp:coreProperties>
</file>